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A14-E6B8-4EB9-9077-C3DB7014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AD4-CDAC-4426-8955-0ADBA9F1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8C22-6615-4E2F-BA2F-E0ABC7D3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D32-5D22-4A63-A04D-9A39A959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663-EA45-4460-8123-B5CEE41F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C7F-83BC-42EF-9653-437D4B44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FBC-4BB2-4247-B95B-521F192F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1E3-DA07-4526-900E-4636765D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8BD-2A76-4F1F-B200-EA60ADA7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348-5CF3-45BE-98D9-687B597F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61B-B5D7-4A41-98BD-FA78321B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2F3-21CD-4DD8-824E-9AEA45A1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97FF-6668-4805-9388-1E3D8251D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7 Je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ý Pánov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ev 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 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j mil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požehnaný Pánov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svätá sobota.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ám z duše mizne starosť, ti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i Slove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každý Božím darom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ak pamiatkou na stvor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nakom večnej dobrot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ú vzácne chvíle sob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nej pieseň chvá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a tento neba dar!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drahý Pán a Stvori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et z hriechu vykúpil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mrie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kríž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z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á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z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 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lásky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š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iel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hrobu zostúpi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dal nám viery istot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 v Božej sile k život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k ako on sám slávne raz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mie zmŕtvychvst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aj každý z 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to v ňom tu svo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á spásy stály zdroj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hriech ti srdce pora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oď k Spasiteľ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liek má, balzam na ra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 pokoj obno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Už zakrátko sa otvor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ie brány nebies domo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m v sobotný deň bude z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nieť vrúcny vykúpencov hl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9:21:10Z</dcterms:modified>
  <cp:revision>22</cp:revision>
  <dc:subject/>
  <dc:title>Je veľký náš Pán, on slávy je Kráľ Nech do všetkých strán  spev vrúcnych znie chvál.</dc:title>
</cp:coreProperties>
</file>